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0859-E598-4C8F-9461-61FA62B7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8751-B859-40EF-83AF-58C3BE2D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2573-BDC6-4A09-9855-C6D512A6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CED-B8C8-4F52-9450-08A07E48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8AF9-87CF-4322-94B7-31F09ED4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5FF4-7D91-4F64-AEF5-32797D23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B5D5-D849-4331-A26B-D387D769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656-96CE-4225-8C48-7178C4CD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81E5-C5EB-4D74-B8FD-2A6CE74A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498B-0FFB-419D-8B0B-018FC910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DE9-9CE0-4F36-9087-095CD5DE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0ED4-E205-404E-8CFE-53D6F287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30CC-376A-4185-9317-F1E006D4A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AI Implementation Notes for LTRS, NACA and Open Vid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hael L. Nel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A Langley Research Center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North Car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ln@ils.unc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tp://www.ils.unc.edu/~ml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AI Open Meeting, Washington DC, January 23,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0A200" descr=""/>
          <p:cNvPicPr/>
          <p:nvPr/>
        </p:nvPicPr>
        <p:blipFill>
          <a:blip r:embed="rId1"/>
          <a:stretch/>
        </p:blipFill>
        <p:spPr>
          <a:xfrm>
            <a:off x="3581280" y="5334120"/>
            <a:ext cx="1905120" cy="1333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638680" y="5257800"/>
            <a:ext cx="1354320" cy="1447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286000" y="5257800"/>
            <a:ext cx="12193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2 Load Bal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ve users on main DL machine should not be impacted by metadata harv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take deliveries through the front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7400" y="2971800"/>
            <a:ext cx="4566600" cy="1632600"/>
            <a:chOff x="4577400" y="2971800"/>
            <a:chExt cx="4566600" cy="1632600"/>
          </a:xfrm>
        </p:grpSpPr>
        <p:sp>
          <p:nvSpPr>
            <p:cNvPr id="133" name=""/>
            <p:cNvSpPr/>
            <p:nvPr/>
          </p:nvSpPr>
          <p:spPr>
            <a:xfrm>
              <a:off x="5105520" y="4114800"/>
              <a:ext cx="99036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5520" y="3429000"/>
              <a:ext cx="99036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105520" y="35812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095880" y="35812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105520" y="3124080"/>
              <a:ext cx="106560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81840" y="3124080"/>
              <a:ext cx="91368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58160" y="3657600"/>
              <a:ext cx="646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7400" y="426708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ca.larc.nasa.gov/oai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47800" y="3116160"/>
              <a:ext cx="2801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f load &gt; 0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edirect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48520" y="2971800"/>
              <a:ext cx="28954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654800" y="4800600"/>
            <a:ext cx="2997000" cy="1480320"/>
            <a:chOff x="4654800" y="4800600"/>
            <a:chExt cx="2997000" cy="1480320"/>
          </a:xfrm>
        </p:grpSpPr>
        <p:sp>
          <p:nvSpPr>
            <p:cNvPr id="144" name=""/>
            <p:cNvSpPr/>
            <p:nvPr/>
          </p:nvSpPr>
          <p:spPr>
            <a:xfrm>
              <a:off x="5562720" y="5105520"/>
              <a:ext cx="99036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62720" y="5791320"/>
              <a:ext cx="99036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562720" y="5257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553080" y="5257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562720" y="4800600"/>
              <a:ext cx="10656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9040" y="4800600"/>
              <a:ext cx="913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15360" y="5334120"/>
              <a:ext cx="646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54800" y="5943600"/>
              <a:ext cx="29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uckets.dsi.internet2.edu/naca/oai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04920" y="3657600"/>
            <a:ext cx="1447560" cy="609480"/>
            <a:chOff x="304920" y="3657600"/>
            <a:chExt cx="1447560" cy="609480"/>
          </a:xfrm>
        </p:grpSpPr>
        <p:sp>
          <p:nvSpPr>
            <p:cNvPr id="153" name=""/>
            <p:cNvSpPr/>
            <p:nvPr/>
          </p:nvSpPr>
          <p:spPr>
            <a:xfrm>
              <a:off x="380520" y="373392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rve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4920" y="3657600"/>
              <a:ext cx="144756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752480" y="3581280"/>
            <a:ext cx="3200400" cy="304920"/>
            <a:chOff x="1752480" y="3581280"/>
            <a:chExt cx="3200400" cy="304920"/>
          </a:xfrm>
        </p:grpSpPr>
        <p:sp>
          <p:nvSpPr>
            <p:cNvPr id="156" name=""/>
            <p:cNvSpPr/>
            <p:nvPr/>
          </p:nvSpPr>
          <p:spPr>
            <a:xfrm>
              <a:off x="1752480" y="38862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9480" y="3581280"/>
              <a:ext cx="1826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http://blah/oai/?verb=ListIdentifie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828800" y="4038480"/>
            <a:ext cx="3276720" cy="231120"/>
            <a:chOff x="1828800" y="4038480"/>
            <a:chExt cx="3276720" cy="231120"/>
          </a:xfrm>
        </p:grpSpPr>
        <p:sp>
          <p:nvSpPr>
            <p:cNvPr id="159" name=""/>
            <p:cNvSpPr/>
            <p:nvPr/>
          </p:nvSpPr>
          <p:spPr>
            <a:xfrm flipH="1">
              <a:off x="1828800" y="42670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70360" y="4038480"/>
              <a:ext cx="1250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HTTP Status Code 30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371600" y="4267080"/>
            <a:ext cx="4114800" cy="1067040"/>
            <a:chOff x="1371600" y="4267080"/>
            <a:chExt cx="4114800" cy="1067040"/>
          </a:xfrm>
        </p:grpSpPr>
        <p:sp>
          <p:nvSpPr>
            <p:cNvPr id="162" name=""/>
            <p:cNvSpPr/>
            <p:nvPr/>
          </p:nvSpPr>
          <p:spPr>
            <a:xfrm>
              <a:off x="1371600" y="4267080"/>
              <a:ext cx="41148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56520" y="4724280"/>
              <a:ext cx="1826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http://blah/oai/?verb=ListIdentifie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218960" y="4419720"/>
            <a:ext cx="4267080" cy="1694160"/>
            <a:chOff x="1218960" y="4419720"/>
            <a:chExt cx="4267080" cy="1694160"/>
          </a:xfrm>
        </p:grpSpPr>
        <p:sp>
          <p:nvSpPr>
            <p:cNvPr id="165" name=""/>
            <p:cNvSpPr/>
            <p:nvPr/>
          </p:nvSpPr>
          <p:spPr>
            <a:xfrm flipH="1" flipV="1">
              <a:off x="1218960" y="4419720"/>
              <a:ext cx="42670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1800" y="5334120"/>
              <a:ext cx="21924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&lt;?xml version=“1.0” encoding=“UTF-8”?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&lt;ListIdentifiers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&lt;/ListIdentifiers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data Q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is very brittle – 1 bad character in the metadata and an entire ListIdentifiers mesg can be dama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, my DLs should be more diligent about scrubbing their metadata, bu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 contributed metadata particularly a problem (e.g. control characters from copy-n-pas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dvantage of resumptionToken is that it compartmentalizes ba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AI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OAI to build our own generalize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s, ale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 have a clean method to export metadata, both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eneral community for unrestrict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 communities with restrict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Alamos, Air Force Research Laboratory, 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Repres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RS (Langley Technical Report Ser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2300 reports, begun in 19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techreports.larc.nasa.gov/ltr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AI: http://techreports.larc.nasa.gov/ltrs/oa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A (National Advisory Committee for Aeronau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A was the predecessor organization to NASA, operating from 1917-19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6300 reports, begun in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naca.larc.nasa.gov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AI: http://naca.larc.nasa.gov/oa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Repres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North Carol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en Video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200 public domain video segments, project begun in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open-video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AI: http://buckets.dsi.internet2.edu/openvideo/oai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Video contents and OAI services still strictly experi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SA: Why is OAI Import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SA builds DLs out of necessity, but ultimately NASA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lis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ted in maximum exposure of and accessibility to its “unrestricted, unlimited”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NASA DLs, we left our “dark matter” partially exp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reports were spidered by robots any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AI provides a more formal interface &amp; protocol for exposing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C: Why is OAI Import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s to grow Open Video into a TREC-like corpus for video segments to share with the research commu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andard collection of short (10 seconds – 1 hour) video segments on which to perform video content based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ility in video types: color/b&amp;w, sound/no sound, high/low motion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in MPEG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 formats in the 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AI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only specifies CGI st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implementation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used a “bucket” for each: LTRS, NACA &amp; Open Vi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ckets are aggregative, computational entities normally used for data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, 1 bucket per “repor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ckets = metadata + data +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AI Bucket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99560" y="1114560"/>
            <a:ext cx="61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5640" y="2403360"/>
            <a:ext cx="98172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method.p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84240" y="2403360"/>
            <a:ext cx="76212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http.p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74600" y="2403360"/>
            <a:ext cx="71928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log.p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89720" y="2403360"/>
            <a:ext cx="63396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tc.p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22120" y="3774960"/>
            <a:ext cx="71928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md.p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66200" y="3774960"/>
            <a:ext cx="80316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state.p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7920" y="26733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92800" y="2736720"/>
            <a:ext cx="794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 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60560" y="2736720"/>
            <a:ext cx="790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pende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74960" y="26733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26880" y="2813040"/>
            <a:ext cx="39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1640" y="26733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6040" y="26733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2840" y="40449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2160" y="40449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40560" y="2736720"/>
            <a:ext cx="7117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r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75480" y="4108320"/>
            <a:ext cx="640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70040" y="4108320"/>
            <a:ext cx="521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c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2139840"/>
            <a:ext cx="4254480" cy="2882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83640" y="5153040"/>
            <a:ext cx="1643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fault bucket pack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2139840"/>
            <a:ext cx="3492720" cy="28893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8920" y="5105520"/>
            <a:ext cx="2987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ucket payload is DL specific support libr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23960" y="1571760"/>
            <a:ext cx="743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x.c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717800" y="1371600"/>
            <a:ext cx="612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514600" y="1828440"/>
            <a:ext cx="21207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717800" y="1828440"/>
            <a:ext cx="2514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15360" y="2409840"/>
            <a:ext cx="36720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81680" y="267984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22440" y="2743200"/>
            <a:ext cx="19537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ai.pl element is a support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at defines access for the specifi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7280" y="5638680"/>
            <a:ext cx="37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 addition to the ~ 30 bucket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ach OAI verb is implemented as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eparat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6668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CA OAI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0040" y="2286000"/>
            <a:ext cx="20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A fil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647960" y="269388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2693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2693880"/>
            <a:ext cx="21337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0760" y="34560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4560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34560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360" y="34560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733560" y="39132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39132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39132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6040" y="4522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91680" y="4522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7040" y="457200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a-t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123720" y="49528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49528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4952880"/>
            <a:ext cx="1524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960" y="5638680"/>
            <a:ext cx="109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5120" y="5638680"/>
            <a:ext cx="121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mbn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3760" y="5638680"/>
            <a:ext cx="99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4876920"/>
            <a:ext cx="32004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33600" y="571500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.c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1676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8880" y="129528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rmal WWW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1752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3200" y="137160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AI requ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2819520"/>
            <a:ext cx="99072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3505320"/>
            <a:ext cx="99072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914400" y="2971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905120" y="2971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914400" y="2514600"/>
            <a:ext cx="10663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1080" y="2514600"/>
            <a:ext cx="9136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7040" y="3048120"/>
            <a:ext cx="64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3505320"/>
            <a:ext cx="1828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3581280"/>
            <a:ext cx="12952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56560" y="2743200"/>
            <a:ext cx="2001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AI responses bui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examining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NACA file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6960" y="4648320"/>
            <a:ext cx="225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TRS, NACA, Open Video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ifferent file structures, metada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ormats,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648320"/>
            <a:ext cx="2210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not implement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le set candidat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A: years, repor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RS: NASA STI subject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supporting Dublin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C not sufficient for targete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not implement resumption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9T18:37:37Z</dcterms:created>
  <dc:creator>officepc</dc:creator>
  <dc:description/>
  <dc:language>en-US</dc:language>
  <cp:lastModifiedBy>B. Danette Allen</cp:lastModifiedBy>
  <dcterms:modified xsi:type="dcterms:W3CDTF">2001-01-21T21:19:07Z</dcterms:modified>
  <cp:revision>11</cp:revision>
  <dc:subject/>
  <dc:title>OAI Implementation Notes for LTRS, NACA and Open Video</dc:title>
</cp:coreProperties>
</file>